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03E-8257-44F3-BD5E-9EA310DF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009-5A32-4AEB-9600-1E21969F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BFB-6410-4C6A-A708-0801594F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E26-7002-4D37-8AD8-C18EB6B0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2EBD-D205-43F3-8F4F-01F04535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DB88-F29C-4688-8C2F-DDBE03C2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8D71-B23C-48F7-AF46-61F6119F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5638-9C12-4E41-B1CD-937229CE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3F57-C5E4-48BD-9155-78F57158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8E9-E62C-492B-8E78-0A8F7B74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1DE6-7D49-448F-9130-6302265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D6A-149E-4419-8189-46E67278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3699-3367-4F60-9F11-A1FDCA4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BB6E-3F73-4E44-9683-276B541D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95B6-B9FA-4E9D-A36E-111BC0D5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A396-9B3B-482A-9A7E-447EE353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886-A0EE-4432-91E5-003D3830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EF0-5F3C-4808-856F-3808C37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CD6-E898-45AC-92B2-44A6E40C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7FA-0CBE-4D6D-90BB-A61DE606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7D2-ED87-4C8B-B47A-68AD3DCB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507-F7B2-45C1-B41B-2AF12F93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516-69DE-4A14-98B5-E5FF7218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2C9-F7E0-4934-8B60-05D57346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00C2-2B24-43A6-AC51-ACD226F7F6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7A3-F8F3-4081-A692-FB91D9EAC7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907920"/>
            <a:ext cx="7848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Библейская цивилизац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в глобальном историческом процес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6588000" y="2421000"/>
            <a:ext cx="216000" cy="3960720"/>
            <a:chOff x="6588000" y="2421000"/>
            <a:chExt cx="216000" cy="3960720"/>
          </a:xfrm>
        </p:grpSpPr>
        <p:sp>
          <p:nvSpPr>
            <p:cNvPr id="154" name=""/>
            <p:cNvSpPr/>
            <p:nvPr/>
          </p:nvSpPr>
          <p:spPr>
            <a:xfrm rot="16200000">
              <a:off x="5688000" y="3321000"/>
              <a:ext cx="2016000" cy="216000"/>
            </a:xfrm>
            <a:custGeom>
              <a:avLst/>
              <a:gdLst>
                <a:gd name="textAreaLeft" fmla="*/ 36360 w 2016000"/>
                <a:gd name="textAreaRight" fmla="*/ 2052720 w 2016000"/>
                <a:gd name="textAreaTop" fmla="*/ 89280 h 216000"/>
                <a:gd name="textAreaBottom" fmla="*/ 126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0" y="4459"/>
                  </a:moveTo>
                  <a:cubicBezTo>
                    <a:pt x="7395" y="-11337"/>
                    <a:pt x="14595" y="20255"/>
                    <a:pt x="21600" y="4459"/>
                  </a:cubicBezTo>
                  <a:lnTo>
                    <a:pt x="21210" y="17141"/>
                  </a:lnTo>
                  <a:cubicBezTo>
                    <a:pt x="14205" y="32937"/>
                    <a:pt x="7005" y="1345"/>
                    <a:pt x="0" y="17141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5688000" y="5265720"/>
              <a:ext cx="2016000" cy="216000"/>
            </a:xfrm>
            <a:custGeom>
              <a:avLst/>
              <a:gdLst>
                <a:gd name="textAreaLeft" fmla="*/ 36360 w 2016000"/>
                <a:gd name="textAreaRight" fmla="*/ 2052720 w 2016000"/>
                <a:gd name="textAreaTop" fmla="*/ 89280 h 216000"/>
                <a:gd name="textAreaBottom" fmla="*/ 126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0" y="4459"/>
                  </a:moveTo>
                  <a:cubicBezTo>
                    <a:pt x="7395" y="-11337"/>
                    <a:pt x="14595" y="20255"/>
                    <a:pt x="21600" y="4459"/>
                  </a:cubicBezTo>
                  <a:lnTo>
                    <a:pt x="21210" y="17141"/>
                  </a:lnTo>
                  <a:cubicBezTo>
                    <a:pt x="14205" y="32937"/>
                    <a:pt x="7005" y="1345"/>
                    <a:pt x="0" y="17141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68360" y="2421000"/>
            <a:ext cx="215640" cy="3960720"/>
            <a:chOff x="2268360" y="2421000"/>
            <a:chExt cx="215640" cy="3960720"/>
          </a:xfrm>
        </p:grpSpPr>
        <p:sp>
          <p:nvSpPr>
            <p:cNvPr id="157" name=""/>
            <p:cNvSpPr/>
            <p:nvPr/>
          </p:nvSpPr>
          <p:spPr>
            <a:xfrm rot="16200000">
              <a:off x="1368000" y="3321000"/>
              <a:ext cx="2016000" cy="215640"/>
            </a:xfrm>
            <a:custGeom>
              <a:avLst/>
              <a:gdLst>
                <a:gd name="textAreaLeft" fmla="*/ 36360 w 2016000"/>
                <a:gd name="textAreaRight" fmla="*/ 2052720 w 20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0" y="4459"/>
                  </a:moveTo>
                  <a:cubicBezTo>
                    <a:pt x="7395" y="-11337"/>
                    <a:pt x="14595" y="20255"/>
                    <a:pt x="21600" y="4459"/>
                  </a:cubicBezTo>
                  <a:lnTo>
                    <a:pt x="21210" y="17141"/>
                  </a:lnTo>
                  <a:cubicBezTo>
                    <a:pt x="14205" y="32937"/>
                    <a:pt x="7005" y="1345"/>
                    <a:pt x="0" y="17141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1368000" y="5265720"/>
              <a:ext cx="2016000" cy="215640"/>
            </a:xfrm>
            <a:custGeom>
              <a:avLst/>
              <a:gdLst>
                <a:gd name="textAreaLeft" fmla="*/ 36360 w 2016000"/>
                <a:gd name="textAreaRight" fmla="*/ 2052720 w 20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0" y="4459"/>
                  </a:moveTo>
                  <a:cubicBezTo>
                    <a:pt x="7395" y="-11337"/>
                    <a:pt x="14595" y="20255"/>
                    <a:pt x="21600" y="4459"/>
                  </a:cubicBezTo>
                  <a:lnTo>
                    <a:pt x="21210" y="17141"/>
                  </a:lnTo>
                  <a:cubicBezTo>
                    <a:pt x="14205" y="32937"/>
                    <a:pt x="7005" y="1345"/>
                    <a:pt x="0" y="17141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920" y="5877000"/>
            <a:ext cx="9074160" cy="936720"/>
            <a:chOff x="34920" y="5877000"/>
            <a:chExt cx="9074160" cy="936720"/>
          </a:xfrm>
        </p:grpSpPr>
        <p:sp>
          <p:nvSpPr>
            <p:cNvPr id="160" name=""/>
            <p:cNvSpPr/>
            <p:nvPr/>
          </p:nvSpPr>
          <p:spPr>
            <a:xfrm rot="16200000">
              <a:off x="2538360" y="5174640"/>
              <a:ext cx="647640" cy="23400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1655640" y="5265720"/>
              <a:ext cx="792000" cy="2160360"/>
            </a:xfrm>
            <a:prstGeom prst="flowChartManualOperation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ШАМАНСК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(дописьменная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6000" y="5877000"/>
              <a:ext cx="1873080" cy="93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БОГОДЕРЖАВ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920" y="5950080"/>
              <a:ext cx="1368360" cy="79200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00"/>
                  </a:solidFill>
                  <a:latin typeface="Times New Roman"/>
                </a:rPr>
                <a:t>ТИП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00"/>
                  </a:solidFill>
                  <a:latin typeface="Times New Roman"/>
                </a:rPr>
                <a:t>КУТЬТУР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4360" y="6021360"/>
              <a:ext cx="3384360" cy="646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ВЕДИЧЕСКИ-МАГИЧЕСК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письменная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588000" y="2421000"/>
            <a:ext cx="216000" cy="3960720"/>
            <a:chOff x="6588000" y="2421000"/>
            <a:chExt cx="216000" cy="3960720"/>
          </a:xfrm>
        </p:grpSpPr>
        <p:sp>
          <p:nvSpPr>
            <p:cNvPr id="166" name=""/>
            <p:cNvSpPr/>
            <p:nvPr/>
          </p:nvSpPr>
          <p:spPr>
            <a:xfrm rot="16200000">
              <a:off x="5688000" y="3321000"/>
              <a:ext cx="2016000" cy="216000"/>
            </a:xfrm>
            <a:custGeom>
              <a:avLst/>
              <a:gdLst>
                <a:gd name="textAreaLeft" fmla="*/ 36360 w 2016000"/>
                <a:gd name="textAreaRight" fmla="*/ 2052720 w 2016000"/>
                <a:gd name="textAreaTop" fmla="*/ 89280 h 216000"/>
                <a:gd name="textAreaBottom" fmla="*/ 126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0" y="4459"/>
                  </a:moveTo>
                  <a:cubicBezTo>
                    <a:pt x="7395" y="-11337"/>
                    <a:pt x="14595" y="20255"/>
                    <a:pt x="21600" y="4459"/>
                  </a:cubicBezTo>
                  <a:lnTo>
                    <a:pt x="21210" y="17141"/>
                  </a:lnTo>
                  <a:cubicBezTo>
                    <a:pt x="14205" y="32937"/>
                    <a:pt x="7005" y="1345"/>
                    <a:pt x="0" y="1714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5688000" y="5265720"/>
              <a:ext cx="2016000" cy="216000"/>
            </a:xfrm>
            <a:custGeom>
              <a:avLst/>
              <a:gdLst>
                <a:gd name="textAreaLeft" fmla="*/ 36360 w 2016000"/>
                <a:gd name="textAreaRight" fmla="*/ 2052720 w 2016000"/>
                <a:gd name="textAreaTop" fmla="*/ 89280 h 216000"/>
                <a:gd name="textAreaBottom" fmla="*/ 126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0" y="4459"/>
                  </a:moveTo>
                  <a:cubicBezTo>
                    <a:pt x="7395" y="-11337"/>
                    <a:pt x="14595" y="20255"/>
                    <a:pt x="21600" y="4459"/>
                  </a:cubicBezTo>
                  <a:lnTo>
                    <a:pt x="21210" y="17141"/>
                  </a:lnTo>
                  <a:cubicBezTo>
                    <a:pt x="14205" y="32937"/>
                    <a:pt x="7005" y="1345"/>
                    <a:pt x="0" y="1714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409840" y="836640"/>
            <a:ext cx="4178160" cy="503280"/>
            <a:chOff x="2409840" y="836640"/>
            <a:chExt cx="4178160" cy="503280"/>
          </a:xfrm>
        </p:grpSpPr>
        <p:grpSp>
          <p:nvGrpSpPr>
            <p:cNvPr id="169" name=""/>
            <p:cNvGrpSpPr/>
            <p:nvPr/>
          </p:nvGrpSpPr>
          <p:grpSpPr>
            <a:xfrm>
              <a:off x="6010200" y="836640"/>
              <a:ext cx="577800" cy="503280"/>
              <a:chOff x="6010200" y="836640"/>
              <a:chExt cx="577800" cy="503280"/>
            </a:xfrm>
          </p:grpSpPr>
          <p:sp>
            <p:nvSpPr>
              <p:cNvPr id="170" name=""/>
              <p:cNvSpPr/>
              <p:nvPr/>
            </p:nvSpPr>
            <p:spPr>
              <a:xfrm>
                <a:off x="6010200" y="1268280"/>
                <a:ext cx="576360" cy="7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1640" y="836640"/>
                <a:ext cx="576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409840" y="836640"/>
              <a:ext cx="577800" cy="503280"/>
              <a:chOff x="2409840" y="836640"/>
              <a:chExt cx="577800" cy="503280"/>
            </a:xfrm>
          </p:grpSpPr>
          <p:sp>
            <p:nvSpPr>
              <p:cNvPr id="173" name=""/>
              <p:cNvSpPr/>
              <p:nvPr/>
            </p:nvSpPr>
            <p:spPr>
              <a:xfrm>
                <a:off x="2409840" y="1268280"/>
                <a:ext cx="576360" cy="7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11280" y="836640"/>
                <a:ext cx="576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Библейская цивилизация</a:t>
            </a:r>
            <a:br>
              <a:rPr sz="2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в глобальном историческом процессе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7640" y="692280"/>
            <a:ext cx="8178840" cy="790560"/>
          </a:xfrm>
          <a:prstGeom prst="rightArrow">
            <a:avLst>
              <a:gd name="adj1" fmla="val 49963"/>
              <a:gd name="adj2" fmla="val 88656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640" y="836640"/>
            <a:ext cx="767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лобальный исторический процесс планеты зем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16000" y="1266840"/>
            <a:ext cx="6696000" cy="649080"/>
            <a:chOff x="1116000" y="1266840"/>
            <a:chExt cx="6696000" cy="649080"/>
          </a:xfrm>
        </p:grpSpPr>
        <p:sp>
          <p:nvSpPr>
            <p:cNvPr id="179" name=""/>
            <p:cNvSpPr/>
            <p:nvPr/>
          </p:nvSpPr>
          <p:spPr>
            <a:xfrm>
              <a:off x="1116000" y="1412640"/>
              <a:ext cx="1440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Века до н.э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080" y="1266840"/>
              <a:ext cx="1439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ХХ в. н.э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72360" y="1268280"/>
              <a:ext cx="1439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ХХ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 в. н.э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11280" y="1844640"/>
            <a:ext cx="8208720" cy="504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Ц    И    В    И    Л    И    З    А    Ц    И   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0920" y="220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Нынешня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30920" y="220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Грядущ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" y="220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шедш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08000" y="2781360"/>
            <a:ext cx="1944720" cy="647640"/>
            <a:chOff x="108000" y="2781360"/>
            <a:chExt cx="1944720" cy="647640"/>
          </a:xfrm>
        </p:grpSpPr>
        <p:sp>
          <p:nvSpPr>
            <p:cNvPr id="187" name=""/>
            <p:cNvSpPr/>
            <p:nvPr/>
          </p:nvSpPr>
          <p:spPr>
            <a:xfrm>
              <a:off x="108000" y="2781360"/>
              <a:ext cx="1944720" cy="6476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80" y="285264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Атланти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-396720" y="3500280"/>
            <a:ext cx="29876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ИО-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ЭНЕРГЕТИЧЕСК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3141720"/>
            <a:ext cx="338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ИБЛЕЙСКАЯ КОНЦЕПЦ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3510000"/>
            <a:ext cx="2952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ТЕХНОКРАТИЧЕСКА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0560" y="393372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ТОЛПО – ЭЛИТАРНА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61080" y="3078000"/>
            <a:ext cx="244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КОБ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32720" y="3357720"/>
            <a:ext cx="2447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ГАРМОНИЧНА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920" y="4292640"/>
            <a:ext cx="9074160" cy="1511280"/>
            <a:chOff x="34920" y="4292640"/>
            <a:chExt cx="9074160" cy="1511280"/>
          </a:xfrm>
        </p:grpSpPr>
        <p:sp>
          <p:nvSpPr>
            <p:cNvPr id="196" name=""/>
            <p:cNvSpPr/>
            <p:nvPr/>
          </p:nvSpPr>
          <p:spPr>
            <a:xfrm>
              <a:off x="7236000" y="4292640"/>
              <a:ext cx="1873080" cy="1511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МЕР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ЧЕЛОВЕЧ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443640" y="4363920"/>
              <a:ext cx="936720" cy="1368720"/>
              <a:chOff x="6443640" y="4363920"/>
              <a:chExt cx="936720" cy="1368720"/>
            </a:xfrm>
          </p:grpSpPr>
          <p:sp>
            <p:nvSpPr>
              <p:cNvPr id="198" name=""/>
              <p:cNvSpPr/>
              <p:nvPr/>
            </p:nvSpPr>
            <p:spPr>
              <a:xfrm>
                <a:off x="6804000" y="4363920"/>
                <a:ext cx="576360" cy="1368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К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О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Н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Ц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Е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П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Ц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И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Й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43640" y="4363920"/>
                <a:ext cx="576360" cy="1368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4643280" y="4435560"/>
              <a:ext cx="1944720" cy="1224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ИМПЕРИАЛИЗ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господ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миров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ростовщическ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системы банков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95640" y="4722840"/>
              <a:ext cx="1081080" cy="865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ФЕО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ДАЛИЗМ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71640" y="4794120"/>
              <a:ext cx="1295640" cy="72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РАБО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ВЛАД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3280" y="4867200"/>
              <a:ext cx="1440000" cy="538200"/>
            </a:xfrm>
            <a:prstGeom prst="flowChartProcess">
              <a:avLst/>
            </a:prstGeom>
            <a:solidFill>
              <a:srgbClr val="c0c0c0">
                <a:alpha val="8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РОДО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ПЛЕМЕН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920" y="4867200"/>
              <a:ext cx="1476360" cy="57636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00"/>
                  </a:solidFill>
                  <a:latin typeface="Times New Roman"/>
                </a:rPr>
                <a:t>СТУПЕ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00"/>
                  </a:solidFill>
                  <a:latin typeface="Times New Roman"/>
                </a:rPr>
                <a:t>ХОЗЯЙСТ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227640" y="3573360"/>
            <a:ext cx="338472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АНТИ-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ТОЛПО–ЭЛИТАРНА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2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2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2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3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8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2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2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2:21:26Z</dcterms:created>
  <dc:creator>Leo</dc:creator>
  <dc:description/>
  <dc:language>en-US</dc:language>
  <cp:lastModifiedBy>Валерий</cp:lastModifiedBy>
  <dcterms:modified xsi:type="dcterms:W3CDTF">2005-12-22T17:03:44Z</dcterms:modified>
  <cp:revision>17</cp:revision>
  <dc:subject/>
  <dc:title>Закон времени и крушение толпо–«элитарного» общества.</dc:title>
</cp:coreProperties>
</file>